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d States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America’s founding ideals, and why are they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ception of something in its absolute per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hat is regarded as a standard or model of perfection or excell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ltimate object of endeavor; a g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honorable or worthy principle or a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, such as a thought or conception, that potentially or actually exists in the mind as a product of mental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inion, conviction, or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ey says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ollowing five statements use this sc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Strongly 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dly 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dly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5334120"/>
            <a:ext cx="919080" cy="885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00800" y="4670280"/>
            <a:ext cx="1560600" cy="2187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05320" y="5638680"/>
            <a:ext cx="2209680" cy="76320"/>
          </a:xfrm>
          <a:prstGeom prst="leftRightArrow">
            <a:avLst>
              <a:gd name="adj1" fmla="val 50000"/>
              <a:gd name="adj2" fmla="val 57637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ey says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mericans are eq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mericans have more rights than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have all the freedoms they dese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mericans have the same opportunities to succeed in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lthy people have a more powerful voice in American democracy than do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Id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ity – the condition of being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s – basic conditions guaranteed to each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y – the freedom to think or act without being limited by unnecessary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– the promise that people should have the chance to attain their hopes and d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cracy – a form of government that places power in the hands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 these ideals com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laration of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old these truths to be self-evident, that all men are created </a:t>
            </a:r>
            <a:r>
              <a:rPr b="0" lang="en-US" sz="2800" spc="-1" strike="noStrike">
                <a:solidFill>
                  <a:srgbClr val="f02e00"/>
                </a:solidFill>
                <a:latin typeface="Arial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at they are endowed by their Creator with certain unalienable </a:t>
            </a:r>
            <a:r>
              <a:rPr b="0" lang="en-US" sz="2800" spc="-1" strike="noStrike">
                <a:solidFill>
                  <a:srgbClr val="f02e00"/>
                </a:solidFill>
                <a:latin typeface="Arial"/>
              </a:rPr>
              <a:t>Righ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at among these are Life, </a:t>
            </a:r>
            <a:r>
              <a:rPr b="0" lang="en-US" sz="2800" spc="-1" strike="noStrike">
                <a:solidFill>
                  <a:srgbClr val="f02e00"/>
                </a:solidFill>
                <a:latin typeface="Arial"/>
              </a:rPr>
              <a:t>Lib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 pursuit of </a:t>
            </a:r>
            <a:r>
              <a:rPr b="0" lang="en-US" sz="2800" spc="-1" strike="noStrike">
                <a:solidFill>
                  <a:srgbClr val="f02e00"/>
                </a:solidFill>
                <a:latin typeface="Arial"/>
              </a:rPr>
              <a:t>Happi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at to secure these rights, Governments are instituted among Men, deriving their just powers from the </a:t>
            </a:r>
            <a:r>
              <a:rPr b="0" lang="en-US" sz="2800" spc="-1" strike="noStrike">
                <a:solidFill>
                  <a:srgbClr val="f02e00"/>
                </a:solidFill>
                <a:latin typeface="Arial"/>
              </a:rPr>
              <a:t>consent of the govern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21:30:52Z</dcterms:created>
  <dc:creator>Susan M. Pojer</dc:creator>
  <dc:description/>
  <dc:language>en-US</dc:language>
  <cp:lastModifiedBy>School District U46</cp:lastModifiedBy>
  <dcterms:modified xsi:type="dcterms:W3CDTF">2008-08-29T12:53:08Z</dcterms:modified>
  <cp:revision>180</cp:revision>
  <dc:subject/>
  <dc:title>Reconstruction (1865-1876)</dc:title>
</cp:coreProperties>
</file>